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2A9ED-5D4A-42B7-BB2F-5B674308A5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10464-0486-4189-A100-213D8E40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40F9A-5DD6-4E65-8920-21C04242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27120-F1A3-483B-B07B-6FD1F09478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1ED62-584B-431F-B703-143A3146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2B05B-1719-4EA5-8173-B3FB682B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2A22B-F041-493C-8C24-C5D7C181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9C631-593F-44DC-AF82-81A867ABF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48091-826B-4EAF-9786-66E5E84CF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823BA-DEBF-4868-8CFA-1ABD0EBF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3EC94-F081-4AEE-8953-EF4A427C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1C2B7-C033-4FD1-836D-E5F0BADD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2D00492-4072-4EDD-9230-F03D3BA066BC}" type="slidenum">
              <a:rPr b="0" lang="fr-F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 FONCTIONNEMENT DE LA ZONE EUR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1619280" y="2205000"/>
            <a:ext cx="64008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/ Comment a-t-elle été mise en place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I/ Quel est le rôle de la Banque centrale européenne (BCE)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457200" y="-135000"/>
            <a:ext cx="822960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68360" y="1197000"/>
            <a:ext cx="828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Définition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La zone euro (ou Union économique et monétaire - UEM) est l'ensemble géographique constitué par les 19 pays de l’Union européenne (UE) qui ont adopté l'euro comme monnaie nationale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Image 6" descr="172526_ch04_ouv_carte.jpg"/>
          <p:cNvPicPr/>
          <p:nvPr/>
        </p:nvPicPr>
        <p:blipFill>
          <a:blip r:embed="rId1"/>
          <a:stretch/>
        </p:blipFill>
        <p:spPr>
          <a:xfrm>
            <a:off x="1905120" y="2362320"/>
            <a:ext cx="51037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539640" y="54936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II/ Comment la zone euro a-t-elle été mise en place 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786760" y="134136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/ Le traité de Maastrich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492360" y="1916280"/>
            <a:ext cx="1727280" cy="3025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5 CRITÈRES DE CONVERGENCE POUR INTÉGRER LA ZONE EUR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411280" y="2349360"/>
            <a:ext cx="1081080" cy="358920"/>
          </a:xfrm>
          <a:prstGeom prst="leftArrow">
            <a:avLst>
              <a:gd name="adj1" fmla="val 50000"/>
              <a:gd name="adj2" fmla="val 5020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2340000" y="4653000"/>
            <a:ext cx="1152360" cy="360360"/>
          </a:xfrm>
          <a:prstGeom prst="leftArrow">
            <a:avLst>
              <a:gd name="adj1" fmla="val 50000"/>
              <a:gd name="adj2" fmla="val 49966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5219640" y="2349360"/>
            <a:ext cx="1008000" cy="28764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5219640" y="4724280"/>
            <a:ext cx="936720" cy="289080"/>
          </a:xfrm>
          <a:prstGeom prst="rightArrow">
            <a:avLst>
              <a:gd name="adj1" fmla="val 50000"/>
              <a:gd name="adj2" fmla="val 49850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4284720" y="4941720"/>
            <a:ext cx="287280" cy="648000"/>
          </a:xfrm>
          <a:prstGeom prst="downArrow">
            <a:avLst>
              <a:gd name="adj1" fmla="val 50000"/>
              <a:gd name="adj2" fmla="val 50125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395280" y="1844640"/>
            <a:ext cx="2016000" cy="18003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 déficit budgétaire doit être inférieur à    3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6227640" y="1916280"/>
            <a:ext cx="2232000" cy="158400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a dette publique doit être inférieure à 60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539640" y="4221000"/>
            <a:ext cx="1800360" cy="15843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’inflation doit être faib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AutoShape 12"/>
          <p:cNvSpPr/>
          <p:nvPr/>
        </p:nvSpPr>
        <p:spPr>
          <a:xfrm>
            <a:off x="6156360" y="3933720"/>
            <a:ext cx="2376360" cy="172728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s taux d’intérêt à long terme doivent être faible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AutoShape 13"/>
          <p:cNvSpPr/>
          <p:nvPr/>
        </p:nvSpPr>
        <p:spPr>
          <a:xfrm>
            <a:off x="3203640" y="5589720"/>
            <a:ext cx="2663640" cy="107928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as de dévaluation deux ans avant d’intégrer l’UEM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07:06:22Z</dcterms:created>
  <dc:creator>bob</dc:creator>
  <dc:description/>
  <dc:language>en-US</dc:language>
  <cp:lastModifiedBy>Mirna BOUSSER</cp:lastModifiedBy>
  <cp:lastPrinted>2009-04-22T19:24:48Z</cp:lastPrinted>
  <dcterms:modified xsi:type="dcterms:W3CDTF">2015-06-12T07:33:20Z</dcterms:modified>
  <cp:revision>25</cp:revision>
  <dc:subject/>
  <dc:title>Diapositive 1</dc:title>
</cp:coreProperties>
</file>