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6E1DA-2A71-4C4F-B33C-C23B2D5E2F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4F0B3-1E04-47BD-A8FC-D6487710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AAB9B-395C-4479-BA6D-8244F594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0A528-27A3-4A1C-9108-C5DA52F711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1F9B7-2DC2-4B72-BE20-179AEBEC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F5A02-BA9A-439F-B6CF-33F55234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19C9F-B625-4179-AF22-F2D7166A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CE866-9702-414B-B2D8-AFCC404FA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04741-52EE-4558-A46A-CC445E8F4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EF2C2-B599-4470-B85A-C0F9952A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B8693-91CA-459C-B46C-E3756150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AF1E5-46E7-4CE3-8409-93227BFD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031F1CC-14B5-4C51-8845-385BC51983A7}" type="slidenum">
              <a:rPr b="0" lang="fr-F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 FONCTIONNEMENT DE LA ZONE EUR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619280" y="2205000"/>
            <a:ext cx="64008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/ Comment a-t-elle été mise en place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I/ Quel est le rôle de la Banque centrale européenne (BCE)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457200" y="-135000"/>
            <a:ext cx="82296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68360" y="1197000"/>
            <a:ext cx="82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Définition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a zone euro (ou Union économique et monétaire - UEM) est l'ensemble géographique constitué par les 19 pays de l’Union européenne (UE) qui ont adopté l'euro comme monnaie nationale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Image 6" descr="172526_ch04_ouv_carte.jpg"/>
          <p:cNvPicPr/>
          <p:nvPr/>
        </p:nvPicPr>
        <p:blipFill>
          <a:blip r:embed="rId1"/>
          <a:stretch/>
        </p:blipFill>
        <p:spPr>
          <a:xfrm>
            <a:off x="1905120" y="2362320"/>
            <a:ext cx="51037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539640" y="54936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II/ Comment la zone euro a-t-elle été mise en place 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786760" y="134136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/ Le traité de Maastrich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492360" y="1916280"/>
            <a:ext cx="1727280" cy="3025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5 CRITÈRES DE CONVERGENCE POUR INTÉGRER LA ZONE EUR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411280" y="2349360"/>
            <a:ext cx="1081080" cy="358920"/>
          </a:xfrm>
          <a:prstGeom prst="leftArrow">
            <a:avLst>
              <a:gd name="adj1" fmla="val 50000"/>
              <a:gd name="adj2" fmla="val 5020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2340000" y="4653000"/>
            <a:ext cx="1152360" cy="360360"/>
          </a:xfrm>
          <a:prstGeom prst="leftArrow">
            <a:avLst>
              <a:gd name="adj1" fmla="val 50000"/>
              <a:gd name="adj2" fmla="val 49966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5219640" y="2349360"/>
            <a:ext cx="1008000" cy="28764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5219640" y="4724280"/>
            <a:ext cx="936720" cy="289080"/>
          </a:xfrm>
          <a:prstGeom prst="rightArrow">
            <a:avLst>
              <a:gd name="adj1" fmla="val 50000"/>
              <a:gd name="adj2" fmla="val 49850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284720" y="4941720"/>
            <a:ext cx="287280" cy="648000"/>
          </a:xfrm>
          <a:prstGeom prst="downArrow">
            <a:avLst>
              <a:gd name="adj1" fmla="val 50000"/>
              <a:gd name="adj2" fmla="val 50125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395280" y="1844640"/>
            <a:ext cx="2016000" cy="18003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déficit budgétaire doit être inférieur à    3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6227640" y="1916280"/>
            <a:ext cx="2232000" cy="15840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a dette publique doit être inférieure à 60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539640" y="4221000"/>
            <a:ext cx="1800360" cy="15843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’inflation doit être faib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6156360" y="3933720"/>
            <a:ext cx="2376360" cy="172728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s taux d’intérêt à long terme doivent être faible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AutoShape 13"/>
          <p:cNvSpPr/>
          <p:nvPr/>
        </p:nvSpPr>
        <p:spPr>
          <a:xfrm>
            <a:off x="3203640" y="5589720"/>
            <a:ext cx="2663640" cy="10792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s de dévaluation deux ans avant d’intégrer l’UEM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07:06:22Z</dcterms:created>
  <dc:creator>bob</dc:creator>
  <dc:description/>
  <dc:language>en-US</dc:language>
  <cp:lastModifiedBy>Mirna BOUSSER</cp:lastModifiedBy>
  <cp:lastPrinted>2009-04-22T19:24:48Z</cp:lastPrinted>
  <dcterms:modified xsi:type="dcterms:W3CDTF">2015-06-12T07:33:20Z</dcterms:modified>
  <cp:revision>25</cp:revision>
  <dc:subject/>
  <dc:title>Diapositive 1</dc:title>
</cp:coreProperties>
</file>