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BC85E-4F40-4BD6-A47A-5127D32FC2A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0E4BF-F5D3-4741-84CB-DB786029D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AA528-7574-41AA-A98B-94D442892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0C455-3FBA-4D6C-837D-E960AE4B2F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A647C-8C62-4734-9B57-D49C249C7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BE3B1-9ECC-497B-8B67-1C44DE8EA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75239-0EB4-45FA-B25B-05EF9D796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AD802-ED84-4FB9-8F93-9E65A24D5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4579D-264C-4A21-A9CB-0F00BDC0C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425F0-FACE-4938-811E-9A7B0FE44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9B7FF-34D9-4386-8A70-D10064DFD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67726-34DD-4F22-AEF8-356129FF2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3280"/>
            <a:ext cx="21304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304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9943528-5338-407E-B1AB-A6F35DD62BAC}" type="slidenum">
              <a:rPr b="0" lang="fr-F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"/>
          <p:cNvSpPr/>
          <p:nvPr/>
        </p:nvSpPr>
        <p:spPr>
          <a:xfrm>
            <a:off x="755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 FONCTIONNEMENT DE LA ZONE EURO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1619280" y="2205000"/>
            <a:ext cx="6400800" cy="30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I/ Qu’est-ce que la zone euro 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II/ Comment a-t-elle été mise en place 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III/ Quel est le rôle de la Banque centrale européenne (BCE) 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7696080" y="6400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© Nathan, 2015.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"/>
          <p:cNvSpPr/>
          <p:nvPr/>
        </p:nvSpPr>
        <p:spPr>
          <a:xfrm>
            <a:off x="457200" y="-135000"/>
            <a:ext cx="8229600" cy="17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ff0000"/>
                </a:solidFill>
                <a:latin typeface="Calibri"/>
              </a:rPr>
              <a:t>I/ Qu’est-ce que la zone euro ?</a:t>
            </a: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468360" y="1197000"/>
            <a:ext cx="828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Calibri"/>
              </a:rPr>
              <a:t>Définition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: La zone euro (ou Union économique et monétaire - UEM) est l'ensemble géographique constitué par les 19 pays de l’Union européenne (UE) qui ont adopté l'euro comme monnaie nationale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7696080" y="6400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© Nathan, 2015.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7" name="Image 6" descr="172526_ch04_ouv_carte.jpg"/>
          <p:cNvPicPr/>
          <p:nvPr/>
        </p:nvPicPr>
        <p:blipFill>
          <a:blip r:embed="rId1"/>
          <a:stretch/>
        </p:blipFill>
        <p:spPr>
          <a:xfrm>
            <a:off x="1905120" y="2362320"/>
            <a:ext cx="51037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"/>
          <p:cNvSpPr/>
          <p:nvPr/>
        </p:nvSpPr>
        <p:spPr>
          <a:xfrm>
            <a:off x="539640" y="549360"/>
            <a:ext cx="813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II/ Comment la zone euro a-t-elle été mise en place 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2786760" y="1341360"/>
            <a:ext cx="336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/ Le traité de Maastrich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3492360" y="1916280"/>
            <a:ext cx="1727280" cy="3025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S 5 CRITÈRES DE CONVERGENCE POUR INTÉGRER LA ZONE EURO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411280" y="2349360"/>
            <a:ext cx="1081080" cy="358920"/>
          </a:xfrm>
          <a:prstGeom prst="leftArrow">
            <a:avLst>
              <a:gd name="adj1" fmla="val 50000"/>
              <a:gd name="adj2" fmla="val 50201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AutoShape 5"/>
          <p:cNvSpPr/>
          <p:nvPr/>
        </p:nvSpPr>
        <p:spPr>
          <a:xfrm>
            <a:off x="2340000" y="4653000"/>
            <a:ext cx="1152360" cy="360360"/>
          </a:xfrm>
          <a:prstGeom prst="leftArrow">
            <a:avLst>
              <a:gd name="adj1" fmla="val 50000"/>
              <a:gd name="adj2" fmla="val 49966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AutoShape 6"/>
          <p:cNvSpPr/>
          <p:nvPr/>
        </p:nvSpPr>
        <p:spPr>
          <a:xfrm>
            <a:off x="5219640" y="2349360"/>
            <a:ext cx="1008000" cy="287640"/>
          </a:xfrm>
          <a:prstGeom prst="rightArrow">
            <a:avLst>
              <a:gd name="adj1" fmla="val 50000"/>
              <a:gd name="adj2" fmla="val 500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AutoShape 7"/>
          <p:cNvSpPr/>
          <p:nvPr/>
        </p:nvSpPr>
        <p:spPr>
          <a:xfrm>
            <a:off x="5219640" y="4724280"/>
            <a:ext cx="936720" cy="289080"/>
          </a:xfrm>
          <a:prstGeom prst="rightArrow">
            <a:avLst>
              <a:gd name="adj1" fmla="val 50000"/>
              <a:gd name="adj2" fmla="val 49850"/>
            </a:avLst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AutoShape 8"/>
          <p:cNvSpPr/>
          <p:nvPr/>
        </p:nvSpPr>
        <p:spPr>
          <a:xfrm>
            <a:off x="4284720" y="4941720"/>
            <a:ext cx="287280" cy="648000"/>
          </a:xfrm>
          <a:prstGeom prst="downArrow">
            <a:avLst>
              <a:gd name="adj1" fmla="val 50000"/>
              <a:gd name="adj2" fmla="val 50125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AutoShape 9"/>
          <p:cNvSpPr/>
          <p:nvPr/>
        </p:nvSpPr>
        <p:spPr>
          <a:xfrm>
            <a:off x="395280" y="1844640"/>
            <a:ext cx="2016000" cy="180036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e déficit budgétaire doit être inférieur à    3 % du PIB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AutoShape 10"/>
          <p:cNvSpPr/>
          <p:nvPr/>
        </p:nvSpPr>
        <p:spPr>
          <a:xfrm>
            <a:off x="6227640" y="1916280"/>
            <a:ext cx="2232000" cy="158400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a dette publique doit être inférieure à 60 % du PIB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AutoShape 11"/>
          <p:cNvSpPr/>
          <p:nvPr/>
        </p:nvSpPr>
        <p:spPr>
          <a:xfrm>
            <a:off x="539640" y="4221000"/>
            <a:ext cx="1800360" cy="15843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’inflation doit être faib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AutoShape 12"/>
          <p:cNvSpPr/>
          <p:nvPr/>
        </p:nvSpPr>
        <p:spPr>
          <a:xfrm>
            <a:off x="6156360" y="3933720"/>
            <a:ext cx="2376360" cy="1727280"/>
          </a:xfrm>
          <a:prstGeom prst="roundRect">
            <a:avLst>
              <a:gd name="adj" fmla="val 16667"/>
            </a:avLst>
          </a:pr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es taux d’intérêt à long terme doivent être faibles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AutoShape 13"/>
          <p:cNvSpPr/>
          <p:nvPr/>
        </p:nvSpPr>
        <p:spPr>
          <a:xfrm>
            <a:off x="3203640" y="5589720"/>
            <a:ext cx="2663640" cy="107928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as de dévaluation deux ans avant d’intégrer l’UEM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7696080" y="6400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© Nathan, 2015.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" dur="2000" fill="hold"/>
                                        <p:tgtEl>
                                          <p:spTgt spid="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" dur="2000" fill="hold"/>
                                        <p:tgtEl>
                                          <p:spTgt spid="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8T07:06:22Z</dcterms:created>
  <dc:creator>bob</dc:creator>
  <dc:description/>
  <dc:language>en-US</dc:language>
  <cp:lastModifiedBy>Mirna BOUSSER</cp:lastModifiedBy>
  <cp:lastPrinted>2009-04-22T19:24:48Z</cp:lastPrinted>
  <dcterms:modified xsi:type="dcterms:W3CDTF">2015-06-12T07:33:20Z</dcterms:modified>
  <cp:revision>25</cp:revision>
  <dc:subject/>
  <dc:title>Diapositive 1</dc:title>
</cp:coreProperties>
</file>