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3F4C2-C5CB-43E8-A569-6403AB87D4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805C4-47F9-4490-B361-F8AED033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BF57C-002E-44A8-AD71-035D887C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57175-FE60-415A-9CCE-55DB90F505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6E536-8553-49DC-A3A7-76065D54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10540-493F-4FC6-A107-D0CAF113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94F65-9BF0-46AD-8439-4FE418BB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CFBE6-21C7-4F79-87A3-EC00B3230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47190-4C76-460A-9D2A-B5EE2CC5F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1A808-91A4-4F92-82A1-A797D97A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61CDC-9C9A-4F00-811D-A0298F77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ED480-AA90-4F8E-BA77-B562BEFB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ACE36DF-BD98-4909-9834-38C4728081E9}" type="slidenum">
              <a:rPr b="0" lang="fr-F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 FONCTIONNEMENT DE LA ZONE EURO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1619280" y="2205000"/>
            <a:ext cx="64008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/ Comment a-t-elle été mise en place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III/ Quel est le rôle de la Banque centrale européenne (BCE) 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457200" y="-135000"/>
            <a:ext cx="8229600" cy="17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I/ Qu’est-ce que la zone euro ?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68360" y="1197000"/>
            <a:ext cx="828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Définition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La zone euro (ou Union économique et monétaire - UEM) est l'ensemble géographique constitué par les 19 pays de l’Union européenne (UE) qui ont adopté l'euro comme monnaie nationale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Image 6" descr="172526_ch04_ouv_carte.jpg"/>
          <p:cNvPicPr/>
          <p:nvPr/>
        </p:nvPicPr>
        <p:blipFill>
          <a:blip r:embed="rId1"/>
          <a:stretch/>
        </p:blipFill>
        <p:spPr>
          <a:xfrm>
            <a:off x="1905120" y="2362320"/>
            <a:ext cx="51037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539640" y="54936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II/ Comment la zone euro a-t-elle été mise en place 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786760" y="1341360"/>
            <a:ext cx="33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/ Le traité de Maastrich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492360" y="1916280"/>
            <a:ext cx="1727280" cy="3025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S 5 CRITÈRES DE CONVERGENCE POUR INTÉGRER LA ZONE EURO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411280" y="2349360"/>
            <a:ext cx="1081080" cy="358920"/>
          </a:xfrm>
          <a:prstGeom prst="leftArrow">
            <a:avLst>
              <a:gd name="adj1" fmla="val 50000"/>
              <a:gd name="adj2" fmla="val 5020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2340000" y="4653000"/>
            <a:ext cx="1152360" cy="360360"/>
          </a:xfrm>
          <a:prstGeom prst="leftArrow">
            <a:avLst>
              <a:gd name="adj1" fmla="val 50000"/>
              <a:gd name="adj2" fmla="val 49966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5219640" y="2349360"/>
            <a:ext cx="1008000" cy="28764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5219640" y="4724280"/>
            <a:ext cx="936720" cy="289080"/>
          </a:xfrm>
          <a:prstGeom prst="rightArrow">
            <a:avLst>
              <a:gd name="adj1" fmla="val 50000"/>
              <a:gd name="adj2" fmla="val 49850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4284720" y="4941720"/>
            <a:ext cx="287280" cy="648000"/>
          </a:xfrm>
          <a:prstGeom prst="downArrow">
            <a:avLst>
              <a:gd name="adj1" fmla="val 50000"/>
              <a:gd name="adj2" fmla="val 50125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395280" y="1844640"/>
            <a:ext cx="2016000" cy="1800360"/>
          </a:xfrm>
          <a:prstGeom prst="roundRect">
            <a:avLst>
              <a:gd name="adj" fmla="val 1666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 déficit budgétaire doit être inférieur à    3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6227640" y="1916280"/>
            <a:ext cx="2232000" cy="158400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a dette publique doit être inférieure à 60 % du PIB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539640" y="4221000"/>
            <a:ext cx="1800360" cy="158436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’inflation doit être faib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AutoShape 12"/>
          <p:cNvSpPr/>
          <p:nvPr/>
        </p:nvSpPr>
        <p:spPr>
          <a:xfrm>
            <a:off x="6156360" y="3933720"/>
            <a:ext cx="2376360" cy="1727280"/>
          </a:xfrm>
          <a:prstGeom prst="roundRect">
            <a:avLst>
              <a:gd name="adj" fmla="val 16667"/>
            </a:avLst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s taux d’intérêt à long terme doivent être faible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AutoShape 13"/>
          <p:cNvSpPr/>
          <p:nvPr/>
        </p:nvSpPr>
        <p:spPr>
          <a:xfrm>
            <a:off x="3203640" y="5589720"/>
            <a:ext cx="2663640" cy="107928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as de dévaluation deux ans avant d’intégrer l’UEM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7696080" y="6400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© Nathan, 2015.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07:06:22Z</dcterms:created>
  <dc:creator>bob</dc:creator>
  <dc:description/>
  <dc:language>en-US</dc:language>
  <cp:lastModifiedBy>Mirna BOUSSER</cp:lastModifiedBy>
  <cp:lastPrinted>2009-04-22T19:24:48Z</cp:lastPrinted>
  <dcterms:modified xsi:type="dcterms:W3CDTF">2015-06-12T07:33:20Z</dcterms:modified>
  <cp:revision>25</cp:revision>
  <dc:subject/>
  <dc:title>Diapositive 1</dc:title>
</cp:coreProperties>
</file>