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C76A8-6306-4F91-BDAF-B8B6473C70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43344-11F6-4571-907A-95796300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B19C5-379C-4473-ADF0-512DF9A5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13F2E-2C9C-4A72-8725-4A26066778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867E4-B201-4F34-983A-A98CC090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3EF3F-78C5-46D7-BDD7-62A05AA0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89A7B-39C3-450F-AD18-7FDC5EE4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FA265-9711-4266-A242-CF88C6F2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20259-7B35-4672-9362-75F7D4433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67798-6DBD-4528-9816-522B1FC7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49C2A-35C6-436B-AD02-7CBA7CBD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C872C-2D36-47E5-97F6-B3F7D595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B173B06-D34E-4EB0-84CC-E5F3C25A842F}" type="slidenum">
              <a:rPr b="0" lang="fr-F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FONCTIONNEMENT DE LA ZONE EUR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619280" y="2205000"/>
            <a:ext cx="64008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/ Comment a-t-elle été mise en place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I/ Quel est le rôle de la Banque centrale européenne (BCE)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457200" y="-135000"/>
            <a:ext cx="82296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68360" y="119700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Définition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a zone euro (ou Union économique et monétaire - UEM) est l'ensemble géographique constitué par les 19 pays de l’Union européenne (UE) qui ont adopté l'euro comme monnaie national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Image 6" descr="172526_ch04_ouv_carte.jpg"/>
          <p:cNvPicPr/>
          <p:nvPr/>
        </p:nvPicPr>
        <p:blipFill>
          <a:blip r:embed="rId1"/>
          <a:stretch/>
        </p:blipFill>
        <p:spPr>
          <a:xfrm>
            <a:off x="1905120" y="2362320"/>
            <a:ext cx="51037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539640" y="54936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II/ Comment la zone euro a-t-elle été mise en place 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786760" y="134136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/ Le traité de Maastrich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492360" y="1916280"/>
            <a:ext cx="1727280" cy="3025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5 CRITÈRES DE CONVERGENCE POUR INTÉGRER LA ZONE EUR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411280" y="2349360"/>
            <a:ext cx="1081080" cy="358920"/>
          </a:xfrm>
          <a:prstGeom prst="leftArrow">
            <a:avLst>
              <a:gd name="adj1" fmla="val 50000"/>
              <a:gd name="adj2" fmla="val 5020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2340000" y="4653000"/>
            <a:ext cx="1152360" cy="360360"/>
          </a:xfrm>
          <a:prstGeom prst="leftArrow">
            <a:avLst>
              <a:gd name="adj1" fmla="val 50000"/>
              <a:gd name="adj2" fmla="val 49966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5219640" y="2349360"/>
            <a:ext cx="1008000" cy="2876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5219640" y="4724280"/>
            <a:ext cx="936720" cy="289080"/>
          </a:xfrm>
          <a:prstGeom prst="rightArrow">
            <a:avLst>
              <a:gd name="adj1" fmla="val 50000"/>
              <a:gd name="adj2" fmla="val 49850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284720" y="4941720"/>
            <a:ext cx="287280" cy="6480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395280" y="1844640"/>
            <a:ext cx="2016000" cy="18003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déficit budgétaire doit être inférieur à    3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6227640" y="1916280"/>
            <a:ext cx="2232000" cy="15840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a dette publique doit être inférieure à 60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539640" y="4221000"/>
            <a:ext cx="1800360" cy="1584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’inflation doit être faib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6156360" y="3933720"/>
            <a:ext cx="2376360" cy="172728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s taux d’intérêt à long terme doivent être faible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3203640" y="5589720"/>
            <a:ext cx="2663640" cy="10792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s de dévaluation deux ans avant d’intégrer l’UEM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07:06:22Z</dcterms:created>
  <dc:creator>bob</dc:creator>
  <dc:description/>
  <dc:language>en-US</dc:language>
  <cp:lastModifiedBy>Mirna BOUSSER</cp:lastModifiedBy>
  <cp:lastPrinted>2009-04-22T19:24:48Z</cp:lastPrinted>
  <dcterms:modified xsi:type="dcterms:W3CDTF">2015-06-12T07:33:20Z</dcterms:modified>
  <cp:revision>25</cp:revision>
  <dc:subject/>
  <dc:title>Diapositive 1</dc:title>
</cp:coreProperties>
</file>